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462-D672-411F-8884-822A5975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570-72AA-454D-8807-DD7CEFEC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790-355B-4F4E-B4B5-BC77FB89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78E-4270-413C-9252-84EB10F1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A20E-0818-41A6-882D-5CE43D33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6DD1-340C-42F9-86B4-186A160B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25FF-6A62-46B0-AE37-914C215C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E434-7FA1-4D8C-846A-5526FD86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C85D-675D-47AD-B071-09124316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5D08-1490-4DFB-A7FE-A27F36E9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2F79-26FE-4B2D-BD65-EB49B3BB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E270-3028-416F-87A3-F36DC7D2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9085-4D25-4583-A584-69E9CEBE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B1D5-88A2-4DB6-B465-52456940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9C56-F844-43AE-95A5-3B9C96E5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0150-E215-4E21-9F76-CFAC74DF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B1B9-8690-4C99-BE45-307C2FEA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78B-860E-442D-9114-5DE7DB7F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77C0-B952-4B26-9E23-EC7FBB4F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731D-6F35-4B85-AD6A-F54AA247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36B-C820-4488-BFAC-FF16FA56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F7A-9665-4DD1-82BA-C020BA33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779-93AC-4D4C-A15B-74481AA9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227-6851-4E2C-824C-3F0F5477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C74E-9B54-41DD-9959-F2CA57FF45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221F-4487-443E-BBCD-498DFA1DF8D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rtex.com.ua/pics/tour/icon/full/288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hkolazhizni.ru/archive/0/n-3870/" TargetMode="External"/><Relationship Id="rId2" Type="http://schemas.openxmlformats.org/officeDocument/2006/relationships/hyperlink" Target="http://www.liebe-de.okis.ru/mentalitet.html" TargetMode="External"/><Relationship Id="rId3" Type="http://schemas.openxmlformats.org/officeDocument/2006/relationships/hyperlink" Target="http://www.langust.ru/review/xenoger2.s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Картинка 72 из 213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403280" y="2708280"/>
            <a:ext cx="624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ahoma"/>
              </a:rPr>
              <a:t>Немецкий менталитет сегод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88240" y="5734080"/>
            <a:ext cx="43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уленкова Анна, 426 груп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родная поговор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4064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Что русскому хорошо, то немцу смерт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411280" y="357336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сновополагающий вопрос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м отличаются люди на Земл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500040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блемные вопро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составляет менталитет жителя Герма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ём проявляются отличия моральных и нравственных ценностей жителей Германии и Росс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Частные вопро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менталит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влияют условия жизни, быт на его становление на примере немецкой на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ём основные отличительные черты менталитетов двух стран: Германии и Росс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Форма представления результатов исследова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клад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фера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зентац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кле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роки и этапы проведения исследова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й урок. Тема: «Понятие менталитет. Что он включает, в чём проявляется. Главные факторы, воздействующие на становление менталитет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-й урок. Тема: «Условия, влияющие на становление менталитета на примере немецкой нац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-й, 4-й урок. Тема: «Различие двух разных менталитетов жителей России и Герман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-й урок. Подведение итогов исслед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нтернет-ресур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shkolazhizni.ru/archive/0/n-3870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www.liebe-de.okis.ru/mentalitet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ttp://www.langust.ru/review/xenoger2.s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21:43Z</dcterms:created>
  <dc:creator>Au226</dc:creator>
  <dc:description/>
  <dc:language>en-US</dc:language>
  <cp:lastModifiedBy>Au226</cp:lastModifiedBy>
  <dcterms:modified xsi:type="dcterms:W3CDTF">2009-10-15T10:48:43Z</dcterms:modified>
  <cp:revision>3</cp:revision>
  <dc:subject/>
  <dc:title>Слайд 1</dc:title>
</cp:coreProperties>
</file>